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AD02-1D3C-47C6-AAE8-A7385FFE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DA23-1E88-418A-BC31-BC4C049E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9950-7DB6-4217-BBEC-1B7B435D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73FC-4272-4164-9B24-2C45C56E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8237-6CD4-419E-B8EE-E5A54E8E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ECF-267D-42C5-A1B7-96EC5E3E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B065-05DB-42D5-9384-EE5EB0E8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C6F0-61FB-46AF-843A-ADB7E941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996B-D6FD-4925-9945-3D27362D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8505-D6D5-485C-A734-1715B8CA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B79A-BA42-49BF-A8B5-F7B3B514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B464-C9A0-4CB3-BB92-D34D38AA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107F-8D8B-4622-B0B5-7213992A029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9687473A-B6B0-47FC-874D-0308AFCB9FC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: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42920" y="1143000"/>
            <a:ext cx="876312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.2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θω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γεγραπτα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ν τῳ Ἠσαϊᾳ τῳ προφητῃ∙ Ἰδου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ποστελλ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ust a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t is writte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Isaiah the prophet, 'Look! I a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nding 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9.30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Ἰησους εἰπεν∙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ετελεσται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sus said, ‘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t i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finish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’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John 5.10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μη πιστευων τῳ θεῳ ψευστη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εποιηκ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αὐτον, ὁτι οὐ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επιστευκ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εἰς την μαρτυριαν ἡ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εματυρηκ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ὁ θεος περι του υἱου αὐ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ne who does not believe in Go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as ma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him a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ar, becaus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e has not believ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the testimony which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as testifi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oncerning his s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24120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4 THE PLU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6157D9E5-B593-4DCF-9FF4-D45BE0AF560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66760" y="1785960"/>
            <a:ext cx="86104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erfec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esent state arising from event in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'I have broken the window' – past event, but it is stil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luperfect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st state arising from event in the remot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'I had broken the window' – past event, created a state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ut the state is now past (it was broken for a time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ut now is fixed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24120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4 THE PLU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3997CFD6-7715-4495-A1E3-4E15B32D6F9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54080" y="1146240"/>
            <a:ext cx="882972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ndirect statements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'But he said tha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e had not destroy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law'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eek uses the original tense of the words of the thought/spee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 δε εἰπεν ὁτι οὐ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καταλελυκ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τον νομο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emporal cla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'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n he had co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he spoke to the people'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eek would normally translate this by a Participle, 'having come, he spoke to the people‘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ἐλθω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εἰπεν τῳ λαῳ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ὁτε ἠλθε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πεν τῳ λαῳ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714240" y="131904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orm of the Pluperfec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87360" y="2143080"/>
          <a:ext cx="8358120" cy="3722760"/>
        </p:xfrm>
        <a:graphic>
          <a:graphicData uri="http://schemas.openxmlformats.org/drawingml/2006/table">
            <a:tbl>
              <a:tblPr/>
              <a:tblGrid>
                <a:gridCol w="2214720"/>
                <a:gridCol w="3074760"/>
                <a:gridCol w="3068640"/>
              </a:tblGrid>
              <a:tr h="69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and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ε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μ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s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σ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τ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ειμ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pl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ει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εισ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(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ντ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Box 3"/>
          <p:cNvSpPr/>
          <p:nvPr/>
        </p:nvSpPr>
        <p:spPr>
          <a:xfrm>
            <a:off x="241200" y="26352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4 THE PLU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5088540C-D118-4270-A35C-741C432FA9E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IDEA OF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81148B7A-DF46-4376-BDBE-2C2AB9144FE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85840" y="1714680"/>
          <a:ext cx="8572320" cy="3840120"/>
        </p:xfrm>
        <a:graphic>
          <a:graphicData uri="http://schemas.openxmlformats.org/drawingml/2006/table">
            <a:tbl>
              <a:tblPr/>
              <a:tblGrid>
                <a:gridCol w="1685880"/>
                <a:gridCol w="1684440"/>
                <a:gridCol w="1768320"/>
                <a:gridCol w="34336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 Ten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p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 Equival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 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Undefi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untying 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unt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fi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unt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unty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fi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unti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ec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and 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ave unti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RM OF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99FB6A7A-A774-41F9-80B1-E409B4B56AA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12840" y="1655640"/>
          <a:ext cx="8518320" cy="3978360"/>
        </p:xfrm>
        <a:graphic>
          <a:graphicData uri="http://schemas.openxmlformats.org/drawingml/2006/table">
            <a:tbl>
              <a:tblPr/>
              <a:tblGrid>
                <a:gridCol w="1703160"/>
                <a:gridCol w="1627200"/>
                <a:gridCol w="1781280"/>
                <a:gridCol w="1703520"/>
                <a:gridCol w="1703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ερυμα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s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ερυσα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σ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ερυ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αμ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ερυ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pl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α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ερυσθ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α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ερυντα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ν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κ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ερυμενος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λυμε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RM OF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1275D3EF-E5E1-4CBE-86E7-188B88E3BC0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1268280"/>
            <a:ext cx="8686800" cy="54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distinguishing mark of the Perfect, in all forms, is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eduplica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erfect Active also has a characteristic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κ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erfect Indicative Active endings are similar to those in the Aor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Middle and the Passive share the same forms in the Perfect (as they also do in the Present and Imperfec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erfect Middle and Passive endings are similar to the Present Middle and Passive endings, but they lack any initial vowel (e.g.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τα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not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τα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μεν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not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μεν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λυκω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declines lik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πα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with nominative singular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λυκω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λυκυι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λυκ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and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declension stem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λυκοτ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-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get Perfects in all of the other moods, where they convey a sense of completion (e.g. Perfect Infinitive Activ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λυκενα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Passiv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λυσθαι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. However these are very r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RM OF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7AA52F87-64D6-4DD4-A05F-B77BBFC262A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171880" y="1571760"/>
            <a:ext cx="4800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6.2.1 Reduplication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762120" y="2895480"/>
            <a:ext cx="7467480" cy="18104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duplication - Perfect - in all m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ugmentation – Imperfect and Aorist - only in the Indic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FORM OF 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DEC61B83-EE61-4A39-BB5C-2B46744DE78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133720" y="1371600"/>
            <a:ext cx="4876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6.2.2 Stem Chang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90680" y="2286000"/>
            <a:ext cx="815328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resence of consonants next to the stem in the perfect causes complications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verbs are straight forward - th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urns into a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η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ther verbs are complicated - the final letter of the stem shifts within defined groups to whatever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nds b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κ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γ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χ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σσ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π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β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φ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 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τ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δ,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θ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ζ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241200" y="44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3 MORE ON THE MEANING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21096FD3-3721-4B03-B0B0-EB49FE95064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776240" y="1281240"/>
            <a:ext cx="5562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6.3.1 Participl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60200" y="1851120"/>
            <a:ext cx="87631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s 16.34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γαλλιασατο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επιστευκω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ῳ θεῳ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rejoiced … becaus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e had become a believ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.e. he had believed and still believed in God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tt. 5.10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ακαριοι οἱ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εδιωγμενο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lessed are thos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o have been persecut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i.e. th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secute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1214280" y="1967040"/>
            <a:ext cx="655344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1)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 πιστις σου σεσωκεν σ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(Mark 5.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2)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κ ἀνεγνω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(Mark 12.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3)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καλεσεν αὐτ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(Mark 1.2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990720" y="4724280"/>
            <a:ext cx="7162560" cy="11692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cus on the meaning of the tens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t their rough English equival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241200" y="44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3 MORE ON THE MEANING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A7DBC3A7-4E69-4CE6-8440-6886D9CF793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87360" y="1281240"/>
            <a:ext cx="835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6.3.</a:t>
            </a:r>
            <a:r>
              <a:rPr b="0" lang="el-GR" sz="29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Difference between the Perfect and Aori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241200" y="442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6.3 MORE ON THE MEANING OF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PERFEC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6:Grammar </a:t>
            </a:r>
            <a:fld id="{521F9068-8589-4D2D-AEF3-D549F041473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6000" y="1866960"/>
          <a:ext cx="8686800" cy="3419280"/>
        </p:xfrm>
        <a:graphic>
          <a:graphicData uri="http://schemas.openxmlformats.org/drawingml/2006/table">
            <a:tbl>
              <a:tblPr/>
              <a:tblGrid>
                <a:gridCol w="2670120"/>
                <a:gridCol w="4105080"/>
                <a:gridCol w="1911600"/>
              </a:tblGrid>
              <a:tr h="1267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 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state resulting from past 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has eaten it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 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6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 in indefinite 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has eaten many apples over the last year 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 Si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 in definite p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ate i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5:55:53Z</dcterms:created>
  <dc:creator>Sarah</dc:creator>
  <dc:description/>
  <dc:language>en-US</dc:language>
  <cp:lastModifiedBy>Sarah</cp:lastModifiedBy>
  <dcterms:modified xsi:type="dcterms:W3CDTF">2009-03-11T22:54:15Z</dcterms:modified>
  <cp:revision>28</cp:revision>
  <dc:subject/>
  <dc:title>Slide 1</dc:title>
</cp:coreProperties>
</file>